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A3AD-2ADA-4018-8C2A-C8DF02C6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B52-8068-4C8F-8E13-89F7F304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444-29B9-413D-8520-BC2FEA46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A90-D6A0-472D-9ACA-8D0E5C5F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24A9-56A6-4A0A-9E99-A2A93FF0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4914-8768-4684-BD09-F9035D54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67D0-A061-430C-B10A-584C75BB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C1CC-1776-4110-8201-2A1AA4C5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6915-2E3D-4F4D-81A1-E961B2DF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A8EF-98E2-47EC-A4D5-A9FECEFE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34BC-3D7F-40D0-91D3-A3B0D0B7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6C34-4591-49AC-B8EB-29FE0525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6C03-64F5-401D-8A8E-D988106E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17AB-814B-4414-B1B7-1B3A100D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392D-1A8D-4DF7-95EA-BE457952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4665-8C11-4449-AB65-27338C91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00DC-8319-4BE4-B9AD-4742C10D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EC9-4528-490D-A69A-166C907B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554-CA2C-499E-BE21-83C0412E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860A-91B0-4D55-8039-D1DB4E03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F9F6-C679-4A3E-A3EC-B9B66F07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041D-1EEA-4512-A7E3-1384CB9E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8FC-FF9C-40FB-9B78-0038C5AA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61F-98A0-4538-AD6D-F55BADB5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B421-C8E2-4D16-AC0F-0D5FE2C66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4050-E2C5-41D1-978F-4C84A52C7C5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四章  保险承保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个人健康保险业务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健康状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逆选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因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性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作经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生活习惯和生活方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个人意外伤害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危险爱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身体健康状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金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团体保险业务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资格、团体的规模、团体成员的投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格、团体的业务性质、参保率、团体成员的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率、保险金额的确定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理赔经验、参保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财产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性能或构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用途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环境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重要防护部位及防护措施状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验有无正处于危险状态中的财产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查各项安全管理制度的制定和执行情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四节  保险合同的保全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全的内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全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保全服务的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单保全服务的基本作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附加价值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咨询与投诉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核保  续保  道德风险  心理风险保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获取承保信息的主要渠道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核保中事前选择和事后选择的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道德风险 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心理风险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个人寿险和团体寿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财产保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单保全服务的基本作业的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承保的基本程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制定承保方针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获取和评价承保信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主要渠道：投保单、中介人及其经营业绩、体检报告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地区销售经理、消费者调查报告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审查核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作出承保决定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五、单证管理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六、续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承保选择与承保控制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核保的概念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核保是指保险公司对可保风险进行评判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，进而决定是否承保、以什么样的条件承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分析过程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核保的内容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前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投保人或被保险人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标的及其利益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后核保选择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核保控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道德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保险金额，避免高额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赔偿程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心理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免赔额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共同保险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单中订入保证条款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优惠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其他优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核保要素分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个人寿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有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体格、 既往症、现症、家庭病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无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、习惯或嗜好、道德风险因素、财务状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31:05Z</dcterms:modified>
  <cp:revision>22</cp:revision>
  <dc:subject/>
  <dc:title>没有幻灯片标题</dc:title>
</cp:coreProperties>
</file>